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1BF8-ABB8-4675-B4C0-E3575EA6E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F2B1-C768-408A-9F4A-763F2B441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B555-C206-460E-9BA2-453169E38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0CF3-C55B-4B53-B234-7739BAF49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9C6E-69AB-4D4A-8BEC-6B446EDD8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BBA3-EC73-4D33-8C5A-C23A36188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EFCC-38E5-4792-A1D2-348AC32EA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3BBB-F8CB-454B-9B75-BCCCF93FF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64EB-997C-4D05-9776-37E80B29A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0AD6-D2CA-493A-87DF-EE1BD80D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5FC9-D1A5-4E50-92F9-9E574F31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7667-B795-4972-B18C-C89A9A5D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A108D-8564-49B7-9E08-1C76FD7753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длог как часть ре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92000" y="2924280"/>
            <a:ext cx="5824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усский  язы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7 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йди предлоги в стихотворени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95280" y="764640"/>
            <a:ext cx="4788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Чудесный выдался денек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 я учу предлоги…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Я должен твердо знать урок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У нас учитель строгий!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 я шепчу, закрыв глаза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крестив под стулом ноги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Что значит – “по”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Что значит – “за”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 “за”, и “по” – предлоги…”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 хорошо бы –за порог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 мчаться по дороге!.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акой бы выдумать предлог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Чтоб не учить предлоги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C:\Users\Александр\Favorites\Pictures\big_devoirs_487_phototeque-1-.jpg"/>
          <p:cNvPicPr/>
          <p:nvPr/>
        </p:nvPicPr>
        <p:blipFill>
          <a:blip r:embed="rId1"/>
          <a:stretch/>
        </p:blipFill>
        <p:spPr>
          <a:xfrm>
            <a:off x="5219640" y="1628640"/>
            <a:ext cx="356076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сновополагающий вопрос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чем нужны части реч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C:\Users\Александр\Favorites\Pictures\school0301.png"/>
          <p:cNvPicPr/>
          <p:nvPr/>
        </p:nvPicPr>
        <p:blipFill>
          <a:blip r:embed="rId1"/>
          <a:stretch/>
        </p:blipFill>
        <p:spPr>
          <a:xfrm>
            <a:off x="2700360" y="2492280"/>
            <a:ext cx="3792600" cy="37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облемный вопрос: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ля чего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лужат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предлог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C:\Users\Александр\Favorites\Pictures\Cartoon-Clipart-Free-16.gif"/>
          <p:cNvPicPr/>
          <p:nvPr/>
        </p:nvPicPr>
        <p:blipFill>
          <a:blip r:embed="rId1"/>
          <a:stretch/>
        </p:blipFill>
        <p:spPr>
          <a:xfrm>
            <a:off x="2700360" y="227664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94920" y="404640"/>
            <a:ext cx="8280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Учебные вопрос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такое предлог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ово правильное написание предлогов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ие предлоги бывают по происхождению и почему они так называются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ие предлоги бывают по структуре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правильно употреблять предлоги в речи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должительность проек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8360" y="242064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ремя выполнения – 2 недел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личество академических часов – 8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личество уроков - 8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808668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едставление результатов проект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39640" y="1916280"/>
            <a:ext cx="5818320" cy="30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блица, схем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зентац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чинение стихотвор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4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9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сурс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усский язык: Учеб. для 7 кл. общеобразоват.учреждений/Т.А.Ладыженская, М.Т.Баранов, Л.А.Тростенцова и др.- 31-е изд.- М.: Просвещение. – 2005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Ладыженская Т.А. Методическое руководство к учебнику «Русский язык» для 7 класс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летаева Е.А.Современные открытые уроки, Р.Я. 7 класс Ростов- на- Дону, Феникс 2002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5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0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5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втор проек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39640" y="1268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обрецова Ирина Викторов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C:\Users\Александр\Favorites\Pictures\48521796_20_1.jpg"/>
          <p:cNvPicPr/>
          <p:nvPr/>
        </p:nvPicPr>
        <p:blipFill>
          <a:blip r:embed="rId1"/>
          <a:stretch/>
        </p:blipFill>
        <p:spPr>
          <a:xfrm>
            <a:off x="2124000" y="2708280"/>
            <a:ext cx="4969080" cy="37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18:13:23Z</dcterms:created>
  <dc:creator>Владелец</dc:creator>
  <dc:description/>
  <dc:language>en-US</dc:language>
  <cp:lastModifiedBy>студент</cp:lastModifiedBy>
  <dcterms:modified xsi:type="dcterms:W3CDTF">2011-04-13T06:42:46Z</dcterms:modified>
  <cp:revision>12</cp:revision>
  <dc:subject/>
  <dc:title>Предлог как часть речи</dc:title>
</cp:coreProperties>
</file>